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36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1.xml"/><Relationship Id="rId4" Type="http://schemas.openxmlformats.org/officeDocument/2006/relationships/slide" Target="slide2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3.xml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6.xm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6.xml"/><Relationship Id="rId1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29.xml"/><Relationship Id="rId12" Type="http://schemas.openxmlformats.org/officeDocument/2006/relationships/slide" Target="slide29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1.xml"/><Relationship Id="rId13" Type="http://schemas.openxmlformats.org/officeDocument/2006/relationships/slide" Target="slide34.xml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1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0.xml"/><Relationship Id="rId13" Type="http://schemas.openxmlformats.org/officeDocument/2006/relationships/slide" Target="slide31.xml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0.xml"/><Relationship Id="rId13" Type="http://schemas.openxmlformats.org/officeDocument/2006/relationships/slide" Target="slide31.xml"/><Relationship Id="rId1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0.xml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ignifikante 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+, ++, +++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signifika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+ bei Hypersthen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0640" y="549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sgelö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tikörpern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e Basalmembr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34560" y="549360"/>
            <a:ext cx="808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omerulä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rreversibl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lomer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Proteinurie (UP/C über 2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lomerulonephrit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usgelöst von Antikörpern gegen die Basalmembr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3" idx="3"/>
            <a:endCxn id="16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omer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U-P/C = 1-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omerulä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reversible glomeruläre Proteinurie (U-P/C = 1-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3"/>
            <a:endCxn id="17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eb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streng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on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tzündung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endCxn id="17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0" name=""/>
          <p:cNvCxnSpPr>
            <a:stCxn id="175" idx="3"/>
            <a:endCxn id="17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ontan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6" name=""/>
          <p:cNvCxnSpPr>
            <a:stCxn id="182" idx="3"/>
            <a:endCxn id="18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Zystozent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onn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at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ontan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schlecht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9" idx="3"/>
            <a:endCxn id="19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3" name=""/>
          <p:cNvCxnSpPr>
            <a:stCxn id="189" idx="3"/>
            <a:endCxn id="19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pontan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chlecht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8440" y="549360"/>
            <a:ext cx="739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us dem Geschlecht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6" idx="3"/>
            <a:endCxn id="19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östrus (Hündi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uerperiu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äsion in der Vagina/Pen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yomet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stataabsze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aginaltumor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icker-Sark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1" idx="3"/>
            <a:endCxn id="20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5" name=""/>
          <p:cNvCxnSpPr>
            <a:stCxn id="201" idx="3"/>
            <a:endCxn id="20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1081080" y="549360"/>
            <a:ext cx="722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3"/>
            <a:endCxn id="20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2" name=""/>
          <p:cNvCxnSpPr>
            <a:stCxn id="208" idx="3"/>
            <a:endCxn id="21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1081080" y="549360"/>
            <a:ext cx="722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Störung der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3"/>
            <a:endCxn id="21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8" name=""/>
          <p:cNvCxnSpPr>
            <a:stCxn id="215" idx="3"/>
            <a:endCxn id="21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5" idx="3"/>
            <a:endCxn id="22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3240" y="549360"/>
            <a:ext cx="75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 prim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3"/>
            <a:endCxn id="2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gnifikante 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+, ++, +++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sthen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st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5" idx="3"/>
            <a:endCxn id="11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81440" y="549360"/>
            <a:ext cx="70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ignifikante Proteinurie (+, ++, +++ bei 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3"/>
            <a:endCxn id="2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4" name=""/>
          <p:cNvCxnSpPr>
            <a:stCxn id="230" idx="3"/>
            <a:endCxn id="2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0" idx="3"/>
            <a:endCxn id="235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8" name=""/>
          <p:cNvCxnSpPr>
            <a:stCxn id="230" idx="3"/>
            <a:endCxn id="236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1" idx="3"/>
            <a:endCxn id="24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6" name=""/>
          <p:cNvCxnSpPr>
            <a:endCxn id="24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82520" y="549360"/>
            <a:ext cx="775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8" idx="3"/>
            <a:endCxn id="2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82520" y="549360"/>
            <a:ext cx="775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3"/>
            <a:endCxn id="25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60" idx="3"/>
            <a:endCxn id="26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63" name=""/>
          <p:cNvCxnSpPr>
            <a:stCxn id="260" idx="3"/>
            <a:endCxn id="264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3"/>
            <a:endCxn id="27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4" idx="3"/>
            <a:endCxn id="27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82520" y="549360"/>
            <a:ext cx="775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equestr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8" idx="3"/>
            <a:endCxn id="28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82520" y="54936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9" idx="3"/>
            <a:endCxn id="29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81080" y="549360"/>
            <a:ext cx="72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Hämost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s Myelom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asmozyt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ä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81080" y="549360"/>
            <a:ext cx="72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3" idx="3"/>
            <a:endCxn id="29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8" name=""/>
          <p:cNvCxnSpPr>
            <a:endCxn id="29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81080" y="549360"/>
            <a:ext cx="72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0" idx="3"/>
            <a:endCxn id="30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5" name=""/>
          <p:cNvCxnSpPr>
            <a:endCxn id="30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81080" y="549360"/>
            <a:ext cx="722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3"/>
            <a:endCxn id="31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81080" y="549360"/>
            <a:ext cx="722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3"/>
            <a:endCxn id="3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81080" y="549360"/>
            <a:ext cx="722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7" idx="3"/>
            <a:endCxn id="3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1240" y="549360"/>
            <a:ext cx="77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ignifikante Proteinurie (+, ++, +++ bei Hyposthenurie)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Hämaturie &gt; Spontanurin &gt; aus dem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mmend &gt; 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3" idx="3"/>
            <a:endCxn id="3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gangszell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blut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1240" y="549360"/>
            <a:ext cx="77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ignifikante Proteinurie (+, ++, +++ bei Hyposthenurie)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stglomerulä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ntzündungszellen im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9" idx="3"/>
            <a:endCxn id="3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kterielle Harnwegs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rreversib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omer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U-P/C über 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versib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omer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U-P/C = 1-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ote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ignifikante Proteinurie (+, ++, +++ bei Hyposthenuri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glomerulä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omer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UP/C über 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lomerulonephr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3"/>
            <a:endCxn id="12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0" name=""/>
          <p:cNvCxnSpPr>
            <a:stCxn id="127" idx="3"/>
            <a:endCxn id="13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108108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omerulä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rreversibl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omer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Proteinurie (UP/C über 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ylo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omerulonephr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usgelö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ntigen/Antikörp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lag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gelö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tikörpern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i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asalmembr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5" idx="3"/>
            <a:endCxn id="13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9" name=""/>
          <p:cNvCxnSpPr>
            <a:stCxn id="135" idx="3"/>
            <a:endCxn id="13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1081080" y="549360"/>
            <a:ext cx="722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lomerulä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rreversibl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glomer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 Proteinurie (UP/C über 2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Glomerulonephr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gelö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tigen/Antikörp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ag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chron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ersist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7" name=""/>
          <p:cNvCxnSpPr>
            <a:stCxn id="143" idx="3"/>
            <a:endCxn id="1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141200" y="549360"/>
            <a:ext cx="722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lomerulä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rreversibl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glomer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 Proteinurie (UP/C über 2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Glomerulonephrit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usgelöst von Antigen/Antikörper-Ablag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ersist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55960" y="549360"/>
            <a:ext cx="73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omerulär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rreversibl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lomer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Proteinurie (UP/C über 2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lomerulonephrit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usgelöst von Antigen/Antikörper-Ablagerung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chronisch persistierende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3"/>
            <a:endCxn id="1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rofilar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shman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orrel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yomet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dokard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3080" y="5666760"/>
            <a:ext cx="387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V = felines Immundefizienz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55960" y="549360"/>
            <a:ext cx="73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te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ignifikante Proteinurie (+, ++, +++ bei Hyposthenurie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omerulär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rreversibl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lomer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Proteinurie (UP/C über 2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lomerulonephriti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usgelöst von Antigen/Antikörper-Ablagerung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3"/>
            <a:endCxn id="16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r Lup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ythematode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080" y="639684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U-P/C = Urin-Protein/Kreatinin-Verhältn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4:15:23Z</dcterms:modified>
  <cp:revision>330</cp:revision>
  <dc:subject/>
  <dc:title>Vorstellung einer Neuheit</dc:title>
</cp:coreProperties>
</file>